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71280"/>
          <a:ext cx="8915400" cy="67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"/>
                    <a:ext cx="891540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66320" y="6477120"/>
            <a:ext cx="466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66320" y="6477120"/>
            <a:ext cx="466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83920" y="1252440"/>
            <a:ext cx="825876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526-     1100  DPA6          CPA01CA6103351                   L       000000    57,067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  257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4,056.8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51                   L       000000     2,221.6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526-                                                                            63,603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24,228-                                                                           290,736.00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6464160"/>
            <a:ext cx="466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294      1100  DPA6          CPA01CA6103365                           300017     2,1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 8.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58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  905   *             1200  DPA6          CPA01CA6103365                           300017        96.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94                                                                              2,280.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960" y="5519880"/>
            <a:ext cx="8182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3,460                                                                             161,52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240" y="6464160"/>
            <a:ext cx="466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83960" y="303120"/>
            <a:ext cx="276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CIPS INTERFACE L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8400" y="871560"/>
            <a:ext cx="894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   BLK   YR   MAN HRS   EOE   APC I/O-GVT      DOC NO         MAP/IBOP   FNL-IND   VOUCHER-NO  AMOUNT   TFO/L-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52440"/>
            <a:ext cx="81824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232      1100  DPA6          CPA01CA6103365                   L       000000    25,36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11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18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905   *             1200  DPA6          CPA01CA6103365                   L       000000       984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ND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PC       232                                                                             28,25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000" y="2895480"/>
            <a:ext cx="8397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960" y="4952880"/>
            <a:ext cx="83980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080" y="5519880"/>
            <a:ext cx="8030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BLK   10,768                                                                           129,216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566640"/>
            <a:ext cx="63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/12/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7240" y="6464160"/>
            <a:ext cx="4662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1:47:46Z</dcterms:created>
  <dc:creator>Jim Nobbs</dc:creator>
  <dc:description/>
  <dc:language>en-US</dc:language>
  <cp:lastModifiedBy>Administrator</cp:lastModifiedBy>
  <cp:lastPrinted>2000-02-04T18:47:38Z</cp:lastPrinted>
  <dcterms:modified xsi:type="dcterms:W3CDTF">2004-08-18T22:48:48Z</dcterms:modified>
  <cp:revision>16</cp:revision>
  <dc:subject/>
  <dc:title>No Slide Title</dc:title>
</cp:coreProperties>
</file>